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CD1-E734-4335-A1C2-15BE6B0C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60F-F09D-4DA9-9A9F-70AC267B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E91-0662-468D-9C90-7E68F1DF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B72-62B7-4A22-BEB8-E91FFB6B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4664-A3D3-4317-968C-8608B4F0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599A-51C0-4027-BAAA-C5E43669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ED07-0D35-49EA-9882-16EF3FA8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2ED8-FCA9-4AAC-86A6-9CB7B049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D071-10FA-41CD-97A9-D1B7FBCC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5407-D3CB-4C31-8B53-D6015696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A473-17FC-44AE-A58B-A459B174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AAD-30B9-4BD5-B4E8-C5D514AC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F8B6-6BDA-4FBE-802C-CE72155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C7A8-7011-4E7F-A848-D9639B1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53B0-3FF3-4B87-9BA3-28A26C39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6E73-5103-48D9-A33C-F21D0649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A178-98D1-4778-AC38-0E6380CB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CED-19B9-42DC-ADC0-896FDAFE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658-B891-4232-A20F-B6C44ACE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8D8-1B02-46B8-8116-8AE1FEC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DD6-04D8-43B8-9515-8E137F8A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9FA-49F4-4023-9FB8-3F02C284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DAA-6CEF-4343-B317-40F94681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00D-8C54-4CB8-814D-4D81637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20CD-67CE-446C-9B47-826B652E08D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6699-A9F2-47FA-A666-C20D8D1DA3F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y Learning Technique by Stephanie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 Learning Technique is Abstract Rando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means that I like to dream, I’m creativ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’m able to do many things at one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see situations in shades of gr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do not like stru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’m sensitive to oth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’m able to follow guidelines with little struc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ft\Right Side Domina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 dominate side is righ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means that 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 cre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ot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n Abstract think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y Learning Sty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 learning style is Auditor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means that I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rn better by someone saying things aloud to 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learn by hearing tap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 listening to someone out lo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My Type of Intelligence 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 Type of Intelligence is Creative Intellige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means that 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 creative in the a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 able to solve to solve answers to many problems quick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I like to learn by experiencing activiti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w will this information help me when I grow up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nformation will help me when  I find a job. I could look closer at the details of t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ob,and, if it fits me,I will try to get that jo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it doesn’t, I will look for one that suits 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 have learned summed u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have learned a lot about the way my brain works. I have taken tests that have given me result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am very crea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learn by audio the b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am right-side domina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are the things I have learned about        myself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w will this help me in school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will help me in school if I am working on a project, I will make one that has to do with my techniques and my type of intellige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would be much easier for m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nk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6:05Z</dcterms:created>
  <dc:creator>student</dc:creator>
  <dc:description/>
  <dc:language>en-US</dc:language>
  <cp:lastModifiedBy>Joni George</cp:lastModifiedBy>
  <dcterms:modified xsi:type="dcterms:W3CDTF">2010-11-23T16:18:38Z</dcterms:modified>
  <cp:revision>7</cp:revision>
  <dc:subject/>
  <dc:title>My Fifth Grade Powerpoint by Stephanie Ann Rhodes</dc:title>
</cp:coreProperties>
</file>